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wmf" ContentType="image/x-wm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D33-3D20-4B43-B91A-0672B25B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659-C055-4A4C-803C-96869106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20C-3B26-4DA6-8B03-A34C3D71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9BE-2B68-40E7-867B-0DECC18E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94D-4323-422D-9F28-75CB1F45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0B2-1422-4CCC-AF68-6A2F5F21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AEC-E94D-44DC-AF0C-B2D4119F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564-13D6-4587-B6AD-EE8B6E06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A7B-B57A-41A4-A895-E6032952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B49-D6D8-42D3-93C4-95C2FE8E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477-061B-4E7C-851D-DBA5E66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B2E-79F6-4340-BD80-80A2BD73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D04F-960E-4F0B-9191-28F98A60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Calibri"/>
              </a:rPr>
              <a:t>How Does Energy Move Between Liquids That are at Different Temperatu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Kristen ITC"/>
              </a:rPr>
              <a:t>By: Kristin and Kir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1828800" cy="182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762120"/>
            <a:ext cx="7848720" cy="22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Purpose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How does energy move between liquids that are at different temper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Hypothesis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As hot and cold water mix, the new temperature will be between the hot and cold temper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Independent Variable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Amount of water (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Levels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09480" y="3276720"/>
          <a:ext cx="8305920" cy="814320"/>
        </p:xfrm>
        <a:graphic>
          <a:graphicData uri="http://schemas.openxmlformats.org/drawingml/2006/table">
            <a:tbl>
              <a:tblPr/>
              <a:tblGrid>
                <a:gridCol w="1658880"/>
                <a:gridCol w="1662120"/>
                <a:gridCol w="1663920"/>
                <a:gridCol w="1662120"/>
                <a:gridCol w="165888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0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30mL (contr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0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0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85800" y="4343400"/>
            <a:ext cx="80010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Dependant Variable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Temperature of the mixed water, (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Constants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Amount of hot water, Temperature of the hot water,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33520"/>
            <a:ext cx="76197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Measure temperature of ic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Pour 10mL of  ice water into the graduated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Measure 30mL of hot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Wait until the water heats up to 85°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Pour ice water into the hot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Record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Repeat steps 1-6 for 20, 30, 40, and 50mL of ic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869840" cy="217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1280" y="4876920"/>
            <a:ext cx="1967040" cy="173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609480"/>
            <a:ext cx="83818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Data Table: Trial 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Amount of ice water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ice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hot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mixed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7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6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1676520" cy="111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685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Data Table: Trial 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3880" y="137160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Amount of ice water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ice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hot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mixed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7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6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848720" y="4876920"/>
            <a:ext cx="1119240" cy="1793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6250" t="17998" r="20625" b="20001"/>
          <a:stretch/>
        </p:blipFill>
        <p:spPr>
          <a:xfrm>
            <a:off x="152280" y="1219320"/>
            <a:ext cx="8839440" cy="54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Calibri"/>
              </a:rPr>
              <a:t>Results Graph: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533520"/>
            <a:ext cx="769608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Calibri"/>
              </a:rPr>
              <a:t>Conclus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According to our data, the more cold water that was added to the same amount of hot water the temperature of the mixed water was c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When we put in 50mL of cold water the temperature of the mixed water was c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We used 85°C hot water and the temperature of the cold water was a little different each time we did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The cold temperature was between 6°C to 11°C. We started with 10mL of cold water with 30mL of hot water and the temperature of the mixed water was 72.2°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When we used 50mL of cold water and 30mL of hot water the mixed temperature was 42.3°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Our hypothesis was that as more cold water was added to the hot water the mixed temperature would be between the hot and cold temperat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Our hypothesis was supported because the temperature of the mixed water was in between the hot and cold wa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When we added more cold water the temperature of the mix water was closer to the temperature of the cold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96080" y="5486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7:15:21Z</dcterms:created>
  <dc:creator>default</dc:creator>
  <dc:description/>
  <dc:language>en-US</dc:language>
  <cp:lastModifiedBy>default</cp:lastModifiedBy>
  <dcterms:modified xsi:type="dcterms:W3CDTF">2008-01-04T15:54:18Z</dcterms:modified>
  <cp:revision>18</cp:revision>
  <dc:subject/>
  <dc:title>How Does Energy Move Between Liquids That are at Different Temperatures?</dc:title>
</cp:coreProperties>
</file>